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4AE-D6CA-47C5-B1E8-961D2C76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00B-AA58-4E0F-AE19-CF4B112E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F2E-F9E7-4C7C-9D68-BCE63ED2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E3C-2270-42C6-AC85-32D910F3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540-8190-42E8-9DD3-2ED75122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B6C-D008-4857-9535-CDE5B0D8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0FE-3103-47B8-861B-3F243190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1C1-0738-498B-9FA5-D71786FD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413-A364-4F20-B056-963B1C1B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A36-05D0-4963-ADE1-194289DA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277-0FAB-486B-9AB5-569FEE32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F43-805C-4896-97FD-DB6F625F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0EF4-708B-4E44-A81B-BE0099336C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2160" y="1905120"/>
            <a:ext cx="7305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Quantitativel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rrecting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 Bi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15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157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69608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38080" y="3124080"/>
            <a:ext cx="7543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1425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78487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769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6201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2130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620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3504960" cy="327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350532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90720" y="762120"/>
            <a:ext cx="7010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4496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619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924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3047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7696080" cy="993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67057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96440" cy="3047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6964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696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2057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792504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09480" y="3505320"/>
            <a:ext cx="7925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696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6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239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21:43:37Z</dcterms:modified>
  <cp:revision>216</cp:revision>
  <dc:subject/>
  <dc:title>Slide 1</dc:title>
</cp:coreProperties>
</file>